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dn102.wav" ContentType="audio/x-wav"/>
  <Override PartName="/ppt/media/zapbig0g.wav" ContentType="audio/x-wav"/>
  <Override PartName="/ppt/media/caralarmoff.wav" ContentType="audio/x-wav"/>
  <Override PartName="/ppt/media/lzipup01.wav" ContentType="audio/x-wav"/>
  <Override PartName="/ppt/media/jetflyby2.wav" ContentType="audio/x-wav"/>
  <Override PartName="/ppt/media/bserie06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DFA-1CB5-4BCD-8C56-1AE432B8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EA3-A373-4334-BCBB-797318A9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5BA-8260-4B96-B277-1FB4199B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1EC8-2485-4A86-97EA-A1973863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42A-ED89-45E1-9A2C-5E65734E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B360-0BDE-4E03-AD3E-DFC1BFD3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EA32-1F25-4FF5-9242-A6CD1812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B6D7-62CB-4166-A581-83585FBF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0DD-A01D-4376-AC7B-06B67824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ED2-BE9B-4BA0-858D-524735B5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C711-5678-494C-BED2-2EBEF88F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EC5-8012-48B7-B039-D2A468C4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5FD3-7BB2-48F2-9DD6-5F5D40939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caralarmoff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caralarmoff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zapbig0g.wav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caralarmoff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caralarmoff.wav"/><Relationship Id="rId15" Type="http://schemas.openxmlformats.org/officeDocument/2006/relationships/audio" Target="../media/bserie06.wav"/><Relationship Id="rId16" Type="http://schemas.openxmlformats.org/officeDocument/2006/relationships/audio" Target="../media/zapbig0g.wav"/><Relationship Id="rId17" Type="http://schemas.openxmlformats.org/officeDocument/2006/relationships/audio" Target="../media/bserie06.wav"/><Relationship Id="rId18" Type="http://schemas.openxmlformats.org/officeDocument/2006/relationships/audio" Target="../media/zapbig0g.wav"/><Relationship Id="rId19" Type="http://schemas.openxmlformats.org/officeDocument/2006/relationships/audio" Target="../media/bserie06.wav"/><Relationship Id="rId20" Type="http://schemas.openxmlformats.org/officeDocument/2006/relationships/audio" Target="../media/zapbig0g.wav"/><Relationship Id="rId21" Type="http://schemas.openxmlformats.org/officeDocument/2006/relationships/audio" Target="../media/bserie06.wav"/><Relationship Id="rId22" Type="http://schemas.openxmlformats.org/officeDocument/2006/relationships/audio" Target="../media/zapbig0g.wav"/><Relationship Id="rId2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caralarmoff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caralarmoff.wav"/><Relationship Id="rId15" Type="http://schemas.openxmlformats.org/officeDocument/2006/relationships/audio" Target="../media/bserie06.wav"/><Relationship Id="rId16" Type="http://schemas.openxmlformats.org/officeDocument/2006/relationships/audio" Target="../media/zapbig0g.wav"/><Relationship Id="rId17" Type="http://schemas.openxmlformats.org/officeDocument/2006/relationships/audio" Target="../media/bserie06.wav"/><Relationship Id="rId18" Type="http://schemas.openxmlformats.org/officeDocument/2006/relationships/audio" Target="../media/zapbig0g.wav"/><Relationship Id="rId19" Type="http://schemas.openxmlformats.org/officeDocument/2006/relationships/audio" Target="../media/bserie06.wav"/><Relationship Id="rId20" Type="http://schemas.openxmlformats.org/officeDocument/2006/relationships/audio" Target="../media/zapbig0g.wav"/><Relationship Id="rId21" Type="http://schemas.openxmlformats.org/officeDocument/2006/relationships/audio" Target="../media/bserie06.wav"/><Relationship Id="rId22" Type="http://schemas.openxmlformats.org/officeDocument/2006/relationships/audio" Target="../media/zapbig0g.wav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Inte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4684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Numbers such as  . . . -3, -2, -1, 0, 1, 2, 3 . .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7240" y="3075120"/>
            <a:ext cx="740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23760" y="2916360"/>
            <a:ext cx="716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          l          l          l          l          l          l          l          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87800" y="3166920"/>
            <a:ext cx="5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66920" y="315900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4792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96880" y="31575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488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57840" y="31370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78640" y="31431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97640" y="31352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45440" y="31431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308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You can use a number line to compare intege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368440" y="4245120"/>
                <a:ext cx="13716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887640" y="4195800"/>
            <a:ext cx="652680" cy="652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746600" y="4226040"/>
                <a:ext cx="4302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890880" y="4216320"/>
                <a:ext cx="608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Inte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84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Numbers such as  . . . -3, -2, -1, 0, 1, 2, 3 . .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240" y="3075120"/>
            <a:ext cx="740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3760" y="2916360"/>
            <a:ext cx="716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          l          l          l          l          l          l          l          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87800" y="3166920"/>
            <a:ext cx="5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66920" y="315900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792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96880" y="31575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488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7840" y="31370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78640" y="31431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97640" y="31352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45440" y="31431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308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You can use a number line to compare intege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387520" y="4245120"/>
                <a:ext cx="13334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3887640" y="4195800"/>
            <a:ext cx="652680" cy="652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70560" y="4206960"/>
                <a:ext cx="7826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890880" y="4216320"/>
                <a:ext cx="608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Inte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4684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Numbers such as  . . . -3, -2, -1, 0, 1, 2, 3 . .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7240" y="3075120"/>
            <a:ext cx="740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760" y="2916360"/>
            <a:ext cx="716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          l          l          l          l          l          l          l          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87800" y="3166920"/>
            <a:ext cx="5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66920" y="315900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792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96880" y="31575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488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57840" y="31370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78640" y="31431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97640" y="31352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45440" y="31431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308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You can use a number line to compare intege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631960" y="4245120"/>
                <a:ext cx="1019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887640" y="4195800"/>
            <a:ext cx="652680" cy="652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51480" y="4226040"/>
                <a:ext cx="8222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890880" y="4216320"/>
                <a:ext cx="608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Inte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4684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Numbers such as  . . . -3, -2, -1, 0, 1, 2, 3 . .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240" y="3075120"/>
            <a:ext cx="740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23760" y="2916360"/>
            <a:ext cx="716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          l          l          l          l          l          l          l          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87800" y="3166920"/>
            <a:ext cx="5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66920" y="315900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792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96880" y="31575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488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57840" y="31370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78640" y="31431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97640" y="31352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45440" y="31431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308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You can use a number line to compare intege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328840" y="4245120"/>
                <a:ext cx="1451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3887640" y="4195800"/>
            <a:ext cx="652680" cy="652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570560" y="4206960"/>
                <a:ext cx="7826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890880" y="4216320"/>
                <a:ext cx="608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Inte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4684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Numbers such as  . . . -3, -2, -1, 0, 1, 2, 3 . .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7240" y="3075120"/>
            <a:ext cx="740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23760" y="2916360"/>
            <a:ext cx="716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          l          l          l          l          l          l          l          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87800" y="3166920"/>
            <a:ext cx="5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66920" y="315900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4792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6880" y="31575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488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57840" y="31370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78640" y="31431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97640" y="31352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45440" y="31431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308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You can use a number line to compare intege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660760" y="4216320"/>
                <a:ext cx="10191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887640" y="4195800"/>
            <a:ext cx="652680" cy="652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648320" y="4226040"/>
                <a:ext cx="6271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890880" y="4216320"/>
                <a:ext cx="608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Inte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4684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Numbers such as  . . . -3, -2, -1, 0, 1, 2, 3 . .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7240" y="3075120"/>
            <a:ext cx="740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23760" y="2916360"/>
            <a:ext cx="716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          l          l          l          l          l          l          l          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87800" y="3166920"/>
            <a:ext cx="5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66920" y="315900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4792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96880" y="31575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488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57840" y="31370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78640" y="31431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97640" y="31352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45440" y="31431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308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You can use a number line to compare intege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386080" y="4216320"/>
                <a:ext cx="14508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3887640" y="4195800"/>
            <a:ext cx="652680" cy="652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765680" y="4206960"/>
                <a:ext cx="3920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890880" y="4216320"/>
                <a:ext cx="608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Oppo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4684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Two numbers the same distance from 0 but are on the opposite sides of 0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7240" y="3075120"/>
            <a:ext cx="740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23760" y="2916360"/>
            <a:ext cx="716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          l          l          l          l          l          l          l          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87800" y="3166920"/>
            <a:ext cx="5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66920" y="315900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4792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96880" y="31575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488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57840" y="31370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78640" y="31431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97640" y="31352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45440" y="31431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7688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Find the opposite of each integ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119240" y="4543560"/>
                <a:ext cx="16858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311640" y="4540320"/>
                <a:ext cx="493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094360" y="4522680"/>
                <a:ext cx="11509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643800" y="4497480"/>
                <a:ext cx="898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120680" y="5502240"/>
                <a:ext cx="16844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11640" y="5477040"/>
                <a:ext cx="493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951440" y="5481720"/>
                <a:ext cx="143820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688080" y="5456160"/>
                <a:ext cx="89856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bsolute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4684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The distance from 0 on the number li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7240" y="3075120"/>
            <a:ext cx="740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23760" y="2916360"/>
            <a:ext cx="716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          l          l          l          l          l          l          l          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87800" y="3166920"/>
            <a:ext cx="5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66920" y="315900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4792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96880" y="31575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488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57840" y="31370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78640" y="31431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97640" y="31352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45440" y="31431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7688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Find the absolute value of each integ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893880" y="4381560"/>
                <a:ext cx="21366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311640" y="4540320"/>
                <a:ext cx="493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849920" y="4361040"/>
                <a:ext cx="16430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6867360" y="4497480"/>
                <a:ext cx="449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920880" y="5338800"/>
                <a:ext cx="16444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33600" y="5477040"/>
                <a:ext cx="449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780080" y="5348160"/>
                <a:ext cx="201456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956280" y="5478480"/>
                <a:ext cx="360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133524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77, 11 – 1 #1-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79, 11 – 2 #1-2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10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6-05-03T20:19:47Z</dcterms:modified>
  <cp:revision>102</cp:revision>
  <dc:subject/>
  <dc:title>Slide 1</dc:title>
</cp:coreProperties>
</file>